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71A-FAD1-46BE-90A1-CCC11003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7C1-96A8-416E-9E2C-EB2F3E71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65B-BC19-417B-900E-7CA55C10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4AF-5C98-470D-AF35-A6A3D642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7B2-0986-4F1F-8653-2A50897A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40B-B517-400D-86BD-97C1E4D5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1D0-9CD6-438B-AE2B-DB54F81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4B2-DD2B-4479-BB68-16233CF8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8D2-C3D4-4932-90B3-8601C08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ED5-92CD-4459-A418-288D1F6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2EA-AE49-4621-9288-5F1C75F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830-9A62-4A93-87EE-FD28B53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8D69-CF7F-4EF0-AB88-32A7F5357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клиничка истраживања се морају спроводити према етичким принципима проистеклим из Хелсиншке декларације, важећим националним прописима и Д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утврдити однос ризика и користи по испита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принципи су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а, безбедност и добробит учесн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питивање мора имати јасну и прецизну оправданост у ранијим доступним клиничким и претклиничким истраживањима, јасну научну заснованост и исцрпан протокол истражи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траживање се спроводи у скалду са протоколом који мора бити одобрен од стране Етичког одб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линичком истраживању за све фазе истраживања као и за све учеснике је одговоран квалификовани, главни истражив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страживач формира свој тим – медицински стручњаци који имају вештине, искуство и знање које им омогућава активно учешће у клиничком истраживањ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/учесници у клиничком истраживању морају добровољним пристанком потврдити учешће у студ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одаци из клиничког истраживања треба да буду евидентирани и архивирани, уз поштовање приватности ист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арентна обрада и представљање резултата ис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који се испитује мора бити произведен у складу са ДП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фазе истраживања подлежу ригорозном систему контр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зор (наручилац испитив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стражив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ура за истражив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за пацијенте и изјаве сагл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чки одбор (Е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е оператив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пе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догађаји, нежељене ре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биљни нежељени догађ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чекиване нежељене реакције (eng. SUS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нз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н за селекцију испитивача и уста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ан је да обезбеди осигурање или накнаду испитивачу/институцији, уколико то прописују важећи про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ању истраживања мора бити сигуран у тачност ранијих претклиничких и клиничких истраживања која су у блиској вези са испитиваним ле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нз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 квалификован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ље које ће бити одговорно за спровеђење мониторинга истраживањ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им фазама, за анализу података, за верификацију података, за спровођење статистичке анализе и припреме извештаја испитивањ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нз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н је за континуирану процену сигурности испитиваног произ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ан је да свим заинтересованим установама, исспитивачима и ЕО као и осталим регулаторним телима достави извештај о свим нежељеним реакцијама ан лек које су биле тешке и неочеки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испитивања подноси извештај регулаторним агенција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иторинг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гледање процеса клиничког истраживања и потврђивање да се све фазе истраживања спроводе, документују и пријављују у складу са протоколом, ДКП-ом, стандардним оперативним процесима и важећим надлежним процеси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лекова се одвија у две фа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о испитивањ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питивањ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000 полазних хемијск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 " кандидата " за претклиничка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" кандидата" за клиничка истражив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нови л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линичких истраживања око 8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own Arrow 6"/>
          <p:cNvSpPr/>
          <p:nvPr/>
        </p:nvSpPr>
        <p:spPr>
          <a:xfrm>
            <a:off x="5724360" y="1989000"/>
            <a:ext cx="142920" cy="432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wn Arrow 7"/>
          <p:cNvSpPr/>
          <p:nvPr/>
        </p:nvSpPr>
        <p:spPr>
          <a:xfrm>
            <a:off x="5796000" y="3068640"/>
            <a:ext cx="144360" cy="36036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own Arrow 8"/>
          <p:cNvSpPr/>
          <p:nvPr/>
        </p:nvSpPr>
        <p:spPr>
          <a:xfrm flipH="1">
            <a:off x="5796000" y="4076640"/>
            <a:ext cx="163440" cy="360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тички одбор – ЕО (комите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 тело институционално, регионално, национално или међународно које чини непран број здравствених радника/научника и нездравствених члан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дужност је да обезбеди заштиту права, сигурности и добробити испитаника укључених у клиничко испитив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љ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вности достави о горе наведеној зашти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вни истражив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ован образовањем, обуком и искуствома да би преузео одговорности за спровођење клиничке студ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документовати своје квалифик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нат је са леком који се испит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знаје међународне и националне регулати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ђује током  мониторинга и надз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гира задатке другим квалификованим истраживач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аже адекватним ресурсима за извођење студ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клиничког истражива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детаљан приказ дизајна клиничког истражи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документу након кратког увода се описују: циљ/циљеви истраживања, план и методологија, исходи који се мере у истраживању, укључујући и искључујући критеријуми, интервенције и поредбене терапијске опције, ризици који се односе на примену лека, начини превазилажења предвиђених ризика, ит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шура за истражив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свеобухватан увид у све претклиничке и клиничке податке о испитиваном производу, који су значајни за његово тестирање на људ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исани пристанак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где испитаник добровољно потврђује сагласност да ће по упознавању о свим аспектима испитивања која су значајна за доношење одлуке учествовати у извођењу нклиничког истражи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испитаник потпише овај документ пре било какве процедуре (лаб. Анализа; попуњавање упитника.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повући уколико пацијент не жели више да учествује у студиј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дардне оператив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нице за постизањеуниформности при извођењу специфичних функци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пекц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ин надлежне власти којим се спроводи званични преглед докумената установа, досијеа и свих других досптупних података за које власти процене да су од интереса за испитив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жељени догађај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анирани и неочекивани испад било у лабораторијском смислу било у клиничком налазу који се временски може повезати са узимањем лека али се узрочно последична веза не може доказа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биљна нежељена реак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serious adverse еvе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било која нежељена појава везана за здравље испитаника која без обзира на дозу изазив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рт, непосредно угрожава живот, инвалидност, хоспитализацију или продужетак хоспитализ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чекивана нежељена реак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cted Unexpected Serious Adverse Reaction - SUS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реакција на лек која није описана у сажетку карaктеристикa лекa нити у брошури за истраживача, чиј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и ток су непозн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се претпоставити на основу фармакокинетичке особине 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га одредити носилац дозволе за промет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цира са Агенцијом, припрема ПСУР, прикупља податке о нежељеним реакциј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штава Агенцију за лекове и о реакцијама које су се јавиле у другим земљ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о испитивање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 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и потенцијал новог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и потенцијал новог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и потенцијал новог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питивање лека се одвија у 4 фа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достављања ПСУ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6 месеци у прве две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 годишње у друге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на сваке 3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С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са основним подацима о ле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к земаља где лек има дозво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 дотадашњих безбедоносних 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СКЛ и ПИЛ због безбедоносних раз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С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изложености пацијената ле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индивидуалних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к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арни приказ нежељених реа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појединих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ту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аве изостанка терапијске ефик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укупне безб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које може предузети Агенција за лек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ње лека са тржиш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склу или п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мо здравственим радни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т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бран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trial -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динамс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креци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ошљив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irst in men studi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проводе у здравој популацији испитаник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80) у болничким условима како би се евалуирали фармакокинетички параметри испитиваног лека у временском интервалу који одговара вишеструком времену полуелиминације при чему се примењују дозе лека које су потврђене претходним претклиничким истраживањима како би се сагледали ефекти и безбедност испитиваног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acending dose studi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ascending dose studies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студија прве фазе указују на фармакокинетику лека, механизам дејства и нежељена дејства која прате повећавање дозе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едећу, другу фазу клиничког испитивања лека, прелази око 70% полазних испитиваних супстанц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фаза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ј фази испитивани лек се први пут примењује у популацији пацијената (N=100-200) који имају болест за чије лечење је лек намењен са циљем да се сазнања о безбедности потврђена у првој фази додатно прошире, али и да се утврди да ли је лек ефикаса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друге фазе се могу поделити на студије фазе 2 А и Б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 студија друге фазе подразумева или постојање само једне групе пацијената која је изложена новом леку која може бити спроведена у једној или две фазе, или може укључивати и контролну групу пацијената која ће током испитивања бити изложена плацебу или стандардној терапиј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студија друге фа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ког испитивања лекова коригују истраживачка питања и дизајн истраживања будуће, треће фазе клиничког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33% полазних испитиваних лекова се ипситују у трећој фази клиничког испитивања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фаза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реће фазе - најзахтевније у организационом смислу, трају дуже и захтевају значајнија економска улагања у односу на прве две фазе клиничког испит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центричне, рандомизиране и дупло слепе студијама које укључују велики број пацијенат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-3000 и виш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 лек се пореди са „златним стандардом“, односно најефикаснијим леком за болест за чије лечење је лек намењ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исходи који се евалуирају у студијама треће фазе су: степен прогресије болести, степен излечења, учесталост нежељених дејстава и степен смр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30%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зних испитиваних лекова наставља испитивање у четврту фазу клиничког испитивања ле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фаза клиничког истраж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маркетиншко праћење ле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ј фази клиничког испитивања, лек се примарно прати у смислу детекције нежељених дејстава, али и у смислу ефикасности и исплaтив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linical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CP) – међународни систем смерница чији су основни принцип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чка и научна униформност у свим његовим фазама: планирању, спровођењу, праћењу, надгледању и извештавању 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квалитетног клиничког испитивања лекова и података о испитива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ивањ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атности, достојанства и доброби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ник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ање научне валидности и кредибилитет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фармацеута у клиничким студијама са леков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 област деловања дипломираног фармацеута су примарно лек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својим знањем и вештинама може допринети бољем развоју лека са фармацеутског аспекта који се односи на: састав, дозирање, начин примене, али и на индикације, контраиндикације, склоност ка интеракцијама и изазивању нежељених реакција испитиваног л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квалификација из домена Добре клиничке праксе, фармацеут мора поседовати знања и поступати у складу са смерницама садржаним у Доброј лабораторијској пракси, Доброј произвођачкој пракси како би се обезбедио квалитет у свим фазама испитивања л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ање леком који се испитује у клиничкој студији јесте одговорност фармацеу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студијског лека, фармацеут мора проверити да ли је лек транспортован у складу са упутствима које је одредио спонзор клиничког истражива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лек се мора чувати у условима (температура, влажност, изложеност светлу) који су одређени студијском документацијом коју је доставио спонзор истражива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документације који прати клиничко истраживање (eng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y manu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фармакотерапијски приручник и садржи информације које се односе на припрему, дозирање, примену и означавање л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мора евидентирати сваки „улаз“ лека који се испитује у клиничкој студији попуњавањем обрасца који се у студијској документацији означава ка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ccountability for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ји је део обавезне документације која прати клиничку студи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ност фармацеута је да детаљно упозна пацијента са начином примене и дозирањем студијског лека, као и са обавезним поступцима у ситуацијама када пацијент заборави да узме предвиђену дозу или уколико се појаве нежељена дејства студијског л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поступак са леком се евидентира, а документација архивира ради будућих мониторинга и инспекциј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линичкој студији, фармацеут може професионално бити ангажован од стране спонзора и као мони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синшка декларација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рт документа о етичком кодексу испитивања људи први пут представљен 1961. године (Светско медицинско удружење,СМУ), а усвојен на 18.-ој Генералној скупштини СМУ, у јуну 1964 .у Хелсинк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синшка декларација – основни етички принцип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истраживачи детаљно познају етичке, међународне и националне правне и регулативне захтеве које се односе на заштиту испита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дужност лекара је да заштити живот, здравље, приватност и достојанство испита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синшка декларација – основни етички принцип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на људима морају бити усклађена са опште прихваћеним научним принципима и са валидним доказима из научне литературе, релевантним подацима и лабораторијским испитивањима на животињ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су оправдана само ако постоји вероватноћа да ће испитаници имати корист од испити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ођење клиничких студија у складу са принципима ДКП-е омогућава учесницим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а, безбедност и поверљивост подат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ч добре клиничке праксе, одобрен од стране реулаторних тела у Европској Ун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ђународни, научни и етички стандард квалитета за планирање, спровођење, праћење и извештавање о клиничким студиј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0:43:07Z</dcterms:created>
  <dc:creator>Author</dc:creator>
  <dc:description/>
  <dc:language>en-US</dc:language>
  <cp:lastModifiedBy>Marina Kostic</cp:lastModifiedBy>
  <dcterms:modified xsi:type="dcterms:W3CDTF">2023-09-11T10:08:00Z</dcterms:modified>
  <cp:revision>44</cp:revision>
  <dc:subject/>
  <dc:title>ДОБРА КЛИНИЧКА ПРАКСА У КЛИНИЧКОМ ИСПИТИВАЊУ</dc:title>
</cp:coreProperties>
</file>